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ng" ContentType="image/png"/>
  <Override PartName="/ppt/media/image14.pct" ContentType="image/x-pict"/>
  <Override PartName="/ppt/media/image2.pct" ContentType="image/x-pict"/>
  <Override PartName="/ppt/media/image5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17BC-FFE0-44EA-BE71-C3E97F6E0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108B-CA5D-4CE1-B2A9-2940BB912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B5A1-6FCB-46C9-9453-899194D5D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65FF-5BFE-4400-99D3-1171B157C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C395-D3B6-484C-87D1-628C29DFE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C1E5-7851-47A6-85A1-4BD44CA63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414C-5356-469A-BFD8-2B918FFE8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2474-BD38-4884-ADD0-7CDCFD247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8E03-27C6-4D67-8A3F-487FFB819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B740-407E-44AE-AC41-3F82BEF8F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B3EC-C39C-4C59-BEA3-667ABC6DA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A8C9-AD56-4A08-88D0-91C0CD4C2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 rot="16200000">
            <a:off x="7295760" y="5029200"/>
            <a:ext cx="3276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Quantenphysik in elementaren Portion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610120" y="6629040"/>
            <a:ext cx="476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C4E-122D-4A83-945F-9B8833E5D93B}" type="slidenum">
              <a:rPr b="0" lang="en-US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6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6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625400" y="1447920"/>
            <a:ext cx="600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bitale und Scha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 Elektroniummod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87904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F7A0-CFF1-4B33-9ADD-25FF77D575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,....3,....2,....1,...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812880"/>
            <a:ext cx="8610840" cy="574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4FA5-3BF6-4204-9763-47F5FFB440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,....3,....2,....1,...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05920" cy="62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E995-F3EA-4F16-8DB2-7693B6E99F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Orbitale von H bis 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9EC7-2B2C-4235-A09E-39CD757E01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mdichte fü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C894-E853-49C8-B5D2-7ABE7833AE4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mdichte fü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Macintosh HD:Users:fred:in Arbeit:Fobi Quanten:FoBi Quanten Videos :Stromdichte, n=3, l=#2C856C.mov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9644C-621A-47A7-8802-D180697334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0040" y="91764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um Umgang mit dem Begriff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lekt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um keine Interferen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1A40-9AC8-45F0-A0EF-69B70C8096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4160" y="7632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elektronen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09400" y="2838600"/>
            <a:ext cx="1207800" cy="972720"/>
            <a:chOff x="3209400" y="2838600"/>
            <a:chExt cx="1207800" cy="972720"/>
          </a:xfrm>
        </p:grpSpPr>
        <p:sp>
          <p:nvSpPr>
            <p:cNvPr id="73" name=""/>
            <p:cNvSpPr/>
            <p:nvPr/>
          </p:nvSpPr>
          <p:spPr>
            <a:xfrm flipH="1" flipV="1">
              <a:off x="3236400" y="2838600"/>
              <a:ext cx="398520" cy="66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9400" y="344304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ktr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89400" y="2858760"/>
            <a:ext cx="1239480" cy="1398960"/>
            <a:chOff x="689400" y="2858760"/>
            <a:chExt cx="1239480" cy="1398960"/>
          </a:xfrm>
        </p:grpSpPr>
        <p:sp>
          <p:nvSpPr>
            <p:cNvPr id="76" name=""/>
            <p:cNvSpPr/>
            <p:nvPr/>
          </p:nvSpPr>
          <p:spPr>
            <a:xfrm flipV="1">
              <a:off x="1258920" y="2858760"/>
              <a:ext cx="66996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9400" y="38894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tand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743840" y="2855520"/>
            <a:ext cx="1207800" cy="1020960"/>
            <a:chOff x="1743840" y="2855520"/>
            <a:chExt cx="1207800" cy="1020960"/>
          </a:xfrm>
        </p:grpSpPr>
        <p:sp>
          <p:nvSpPr>
            <p:cNvPr id="79" name=""/>
            <p:cNvSpPr/>
            <p:nvPr/>
          </p:nvSpPr>
          <p:spPr>
            <a:xfrm flipV="1">
              <a:off x="2249280" y="2855520"/>
              <a:ext cx="9360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43840" y="35082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ktr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813400" y="2858760"/>
            <a:ext cx="1221480" cy="1543320"/>
            <a:chOff x="2813400" y="2858760"/>
            <a:chExt cx="1221480" cy="1543320"/>
          </a:xfrm>
        </p:grpSpPr>
        <p:sp>
          <p:nvSpPr>
            <p:cNvPr id="82" name=""/>
            <p:cNvSpPr/>
            <p:nvPr/>
          </p:nvSpPr>
          <p:spPr>
            <a:xfrm flipH="1" flipV="1">
              <a:off x="2914920" y="2858760"/>
              <a:ext cx="379440" cy="12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13400" y="403380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ustand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043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ktron 1 befindet sich im Zustand A, Elektron 2  im Zustand 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8230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 Felder, ein elektrisches und ein magnetisch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81760" y="5815080"/>
            <a:ext cx="19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u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191120" y="2071800"/>
            <a:ext cx="4800600" cy="761760"/>
            <a:chOff x="4191120" y="2071800"/>
            <a:chExt cx="4800600" cy="761760"/>
          </a:xfrm>
        </p:grpSpPr>
        <p:sp>
          <p:nvSpPr>
            <p:cNvPr id="88" name=""/>
            <p:cNvSpPr/>
            <p:nvPr/>
          </p:nvSpPr>
          <p:spPr>
            <a:xfrm>
              <a:off x="4191120" y="207180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c7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21589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70113"/>
                  </a:solidFill>
                  <a:latin typeface="Arial"/>
                </a:rPr>
                <a:t>Funktion in sechsdimensionalem Ortsra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019920" y="62625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u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5954760"/>
            <a:ext cx="1768320" cy="127080"/>
          </a:xfrm>
          <a:custGeom>
            <a:avLst/>
            <a:gdLst/>
            <a:ahLst/>
            <a:rect l="l" t="t" r="r" b="b"/>
            <a:pathLst>
              <a:path w="1114" h="80">
                <a:moveTo>
                  <a:pt x="0" y="55"/>
                </a:moveTo>
                <a:cubicBezTo>
                  <a:pt x="56" y="20"/>
                  <a:pt x="119" y="5"/>
                  <a:pt x="185" y="0"/>
                </a:cubicBezTo>
                <a:cubicBezTo>
                  <a:pt x="304" y="6"/>
                  <a:pt x="423" y="23"/>
                  <a:pt x="542" y="36"/>
                </a:cubicBezTo>
                <a:cubicBezTo>
                  <a:pt x="570" y="44"/>
                  <a:pt x="598" y="50"/>
                  <a:pt x="628" y="55"/>
                </a:cubicBezTo>
                <a:cubicBezTo>
                  <a:pt x="680" y="72"/>
                  <a:pt x="746" y="75"/>
                  <a:pt x="800" y="80"/>
                </a:cubicBezTo>
                <a:cubicBezTo>
                  <a:pt x="886" y="75"/>
                  <a:pt x="974" y="75"/>
                  <a:pt x="1059" y="55"/>
                </a:cubicBezTo>
                <a:cubicBezTo>
                  <a:pt x="1078" y="41"/>
                  <a:pt x="1092" y="22"/>
                  <a:pt x="1114" y="12"/>
                </a:cubicBezTo>
              </a:path>
            </a:pathLst>
          </a:custGeom>
          <a:noFill/>
          <a:ln w="28440">
            <a:solidFill>
              <a:srgbClr val="c701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7640" y="609480"/>
            <a:ext cx="368280" cy="925560"/>
            <a:chOff x="4427640" y="609480"/>
            <a:chExt cx="368280" cy="925560"/>
          </a:xfrm>
        </p:grpSpPr>
        <p:sp>
          <p:nvSpPr>
            <p:cNvPr id="93" name=""/>
            <p:cNvSpPr/>
            <p:nvPr/>
          </p:nvSpPr>
          <p:spPr>
            <a:xfrm>
              <a:off x="4486320" y="609480"/>
              <a:ext cx="309600" cy="925560"/>
            </a:xfrm>
            <a:custGeom>
              <a:avLst/>
              <a:gdLst/>
              <a:ahLst/>
              <a:rect l="l" t="t" r="r" b="b"/>
              <a:pathLst>
                <a:path w="195" h="583">
                  <a:moveTo>
                    <a:pt x="0" y="0"/>
                  </a:moveTo>
                  <a:cubicBezTo>
                    <a:pt x="29" y="137"/>
                    <a:pt x="83" y="244"/>
                    <a:pt x="127" y="381"/>
                  </a:cubicBezTo>
                  <a:cubicBezTo>
                    <a:pt x="139" y="421"/>
                    <a:pt x="157" y="459"/>
                    <a:pt x="165" y="501"/>
                  </a:cubicBezTo>
                  <a:cubicBezTo>
                    <a:pt x="167" y="513"/>
                    <a:pt x="168" y="525"/>
                    <a:pt x="172" y="538"/>
                  </a:cubicBezTo>
                  <a:cubicBezTo>
                    <a:pt x="176" y="554"/>
                    <a:pt x="195" y="583"/>
                    <a:pt x="195" y="583"/>
                  </a:cubicBezTo>
                </a:path>
              </a:pathLst>
            </a:custGeom>
            <a:noFill/>
            <a:ln w="2844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7640" y="679320"/>
              <a:ext cx="368280" cy="749520"/>
            </a:xfrm>
            <a:custGeom>
              <a:avLst/>
              <a:gdLst/>
              <a:ahLst/>
              <a:rect l="l" t="t" r="r" b="b"/>
              <a:pathLst>
                <a:path w="232" h="472">
                  <a:moveTo>
                    <a:pt x="232" y="0"/>
                  </a:moveTo>
                  <a:cubicBezTo>
                    <a:pt x="222" y="17"/>
                    <a:pt x="211" y="35"/>
                    <a:pt x="202" y="53"/>
                  </a:cubicBezTo>
                  <a:cubicBezTo>
                    <a:pt x="186" y="82"/>
                    <a:pt x="173" y="113"/>
                    <a:pt x="157" y="143"/>
                  </a:cubicBezTo>
                  <a:cubicBezTo>
                    <a:pt x="127" y="197"/>
                    <a:pt x="87" y="244"/>
                    <a:pt x="60" y="300"/>
                  </a:cubicBezTo>
                  <a:cubicBezTo>
                    <a:pt x="42" y="378"/>
                    <a:pt x="79" y="429"/>
                    <a:pt x="0" y="472"/>
                  </a:cubicBezTo>
                </a:path>
              </a:pathLst>
            </a:custGeom>
            <a:noFill/>
            <a:ln w="2844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609480" y="609480"/>
          <a:ext cx="525780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52578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85720" y="2014560"/>
          <a:ext cx="99072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2014560"/>
                    <a:ext cx="9907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65200" y="2484360"/>
          <a:ext cx="2887560" cy="3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200" y="2484360"/>
                    <a:ext cx="28875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01AB-C897-44B9-A6C5-31E89CDD58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333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278604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5105520" cy="65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i-Prinz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2752-D4FF-4913-8932-DEC8F9C5FC0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106880" y="5133960"/>
            <a:ext cx="774720" cy="657360"/>
            <a:chOff x="4106880" y="5133960"/>
            <a:chExt cx="774720" cy="657360"/>
          </a:xfrm>
        </p:grpSpPr>
        <p:sp>
          <p:nvSpPr>
            <p:cNvPr id="106" name=""/>
            <p:cNvSpPr/>
            <p:nvPr/>
          </p:nvSpPr>
          <p:spPr>
            <a:xfrm>
              <a:off x="4106880" y="5308560"/>
              <a:ext cx="457200" cy="48276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74720" y="51339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c70113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c70113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50040" y="5191200"/>
            <a:ext cx="1523880" cy="596880"/>
            <a:chOff x="5450040" y="5191200"/>
            <a:chExt cx="1523880" cy="596880"/>
          </a:xfrm>
        </p:grpSpPr>
        <p:sp>
          <p:nvSpPr>
            <p:cNvPr id="109" name=""/>
            <p:cNvSpPr/>
            <p:nvPr/>
          </p:nvSpPr>
          <p:spPr>
            <a:xfrm>
              <a:off x="5450040" y="5534280"/>
              <a:ext cx="1523880" cy="2538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56160" y="51912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94640" y="1219320"/>
            <a:ext cx="4996080" cy="5005800"/>
            <a:chOff x="2294640" y="1219320"/>
            <a:chExt cx="4996080" cy="5005800"/>
          </a:xfrm>
        </p:grpSpPr>
        <p:sp>
          <p:nvSpPr>
            <p:cNvPr id="112" name=""/>
            <p:cNvSpPr/>
            <p:nvPr/>
          </p:nvSpPr>
          <p:spPr>
            <a:xfrm>
              <a:off x="2727360" y="5783400"/>
              <a:ext cx="449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720" y="571500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94640" y="1219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741760" y="1293840"/>
              <a:ext cx="0" cy="449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33840" y="3621240"/>
            <a:ext cx="693720" cy="788760"/>
            <a:chOff x="2733840" y="3621240"/>
            <a:chExt cx="693720" cy="788760"/>
          </a:xfrm>
        </p:grpSpPr>
        <p:sp>
          <p:nvSpPr>
            <p:cNvPr id="117" name=""/>
            <p:cNvSpPr/>
            <p:nvPr/>
          </p:nvSpPr>
          <p:spPr>
            <a:xfrm flipH="1" rot="5400000">
              <a:off x="2746440" y="3940200"/>
              <a:ext cx="457200" cy="4824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0680" y="362124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c70113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c70113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736360" y="1542960"/>
            <a:ext cx="610200" cy="1524240"/>
            <a:chOff x="2736360" y="1542960"/>
            <a:chExt cx="610200" cy="1524240"/>
          </a:xfrm>
        </p:grpSpPr>
        <p:sp>
          <p:nvSpPr>
            <p:cNvPr id="120" name=""/>
            <p:cNvSpPr/>
            <p:nvPr/>
          </p:nvSpPr>
          <p:spPr>
            <a:xfrm flipH="1" rot="5400000">
              <a:off x="2100600" y="2178000"/>
              <a:ext cx="1524240" cy="2538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39680" y="17035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868560" y="1247760"/>
            <a:ext cx="1875600" cy="2133720"/>
            <a:chOff x="3868560" y="1247760"/>
            <a:chExt cx="1875600" cy="2133720"/>
          </a:xfrm>
        </p:grpSpPr>
        <p:sp>
          <p:nvSpPr>
            <p:cNvPr id="123" name=""/>
            <p:cNvSpPr/>
            <p:nvPr/>
          </p:nvSpPr>
          <p:spPr>
            <a:xfrm rot="5400000">
              <a:off x="3258720" y="1857240"/>
              <a:ext cx="2133720" cy="914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4800" y="1371600"/>
              <a:ext cx="153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 · 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26040" y="3611520"/>
            <a:ext cx="2404080" cy="1027080"/>
            <a:chOff x="5126040" y="3611520"/>
            <a:chExt cx="2404080" cy="1027080"/>
          </a:xfrm>
        </p:grpSpPr>
        <p:sp>
          <p:nvSpPr>
            <p:cNvPr id="126" name=""/>
            <p:cNvSpPr/>
            <p:nvPr/>
          </p:nvSpPr>
          <p:spPr>
            <a:xfrm>
              <a:off x="5126040" y="3724200"/>
              <a:ext cx="2133720" cy="9144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90760" y="3611520"/>
              <a:ext cx="153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 · 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8D1B-D25F-43A2-BD0E-B165BDADCCF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4776840" y="5133960"/>
            <a:ext cx="774720" cy="657360"/>
            <a:chOff x="4776840" y="5133960"/>
            <a:chExt cx="774720" cy="657360"/>
          </a:xfrm>
        </p:grpSpPr>
        <p:sp>
          <p:nvSpPr>
            <p:cNvPr id="129" name=""/>
            <p:cNvSpPr/>
            <p:nvPr/>
          </p:nvSpPr>
          <p:spPr>
            <a:xfrm>
              <a:off x="4776840" y="5308560"/>
              <a:ext cx="457200" cy="48276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44680" y="51339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c70113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c70113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76920" y="5191200"/>
            <a:ext cx="1523880" cy="596880"/>
            <a:chOff x="4876920" y="5191200"/>
            <a:chExt cx="1523880" cy="596880"/>
          </a:xfrm>
        </p:grpSpPr>
        <p:sp>
          <p:nvSpPr>
            <p:cNvPr id="132" name=""/>
            <p:cNvSpPr/>
            <p:nvPr/>
          </p:nvSpPr>
          <p:spPr>
            <a:xfrm>
              <a:off x="4876920" y="5534280"/>
              <a:ext cx="1523880" cy="2538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83040" y="51912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94640" y="1219320"/>
            <a:ext cx="4996080" cy="5005800"/>
            <a:chOff x="2294640" y="1219320"/>
            <a:chExt cx="4996080" cy="5005800"/>
          </a:xfrm>
        </p:grpSpPr>
        <p:sp>
          <p:nvSpPr>
            <p:cNvPr id="135" name=""/>
            <p:cNvSpPr/>
            <p:nvPr/>
          </p:nvSpPr>
          <p:spPr>
            <a:xfrm>
              <a:off x="2727360" y="5783400"/>
              <a:ext cx="4495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720" y="571500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94640" y="1219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741760" y="1293840"/>
              <a:ext cx="0" cy="449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33840" y="2943360"/>
            <a:ext cx="693720" cy="788760"/>
            <a:chOff x="2733840" y="2943360"/>
            <a:chExt cx="693720" cy="788760"/>
          </a:xfrm>
        </p:grpSpPr>
        <p:sp>
          <p:nvSpPr>
            <p:cNvPr id="140" name=""/>
            <p:cNvSpPr/>
            <p:nvPr/>
          </p:nvSpPr>
          <p:spPr>
            <a:xfrm flipH="1" rot="5400000">
              <a:off x="2746440" y="3262320"/>
              <a:ext cx="457200" cy="4824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c7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20680" y="2943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c70113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c70113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36360" y="2133360"/>
            <a:ext cx="610200" cy="1523880"/>
            <a:chOff x="2736360" y="2133360"/>
            <a:chExt cx="610200" cy="1523880"/>
          </a:xfrm>
        </p:grpSpPr>
        <p:sp>
          <p:nvSpPr>
            <p:cNvPr id="143" name=""/>
            <p:cNvSpPr/>
            <p:nvPr/>
          </p:nvSpPr>
          <p:spPr>
            <a:xfrm flipH="1" rot="5400000">
              <a:off x="2100960" y="2768400"/>
              <a:ext cx="1523880" cy="25380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84"/>
                  </a:moveTo>
                  <a:cubicBezTo>
                    <a:pt x="64" y="392"/>
                    <a:pt x="128" y="400"/>
                    <a:pt x="240" y="336"/>
                  </a:cubicBezTo>
                  <a:cubicBezTo>
                    <a:pt x="352" y="272"/>
                    <a:pt x="520" y="0"/>
                    <a:pt x="672" y="0"/>
                  </a:cubicBezTo>
                  <a:cubicBezTo>
                    <a:pt x="824" y="0"/>
                    <a:pt x="1032" y="272"/>
                    <a:pt x="1152" y="336"/>
                  </a:cubicBezTo>
                  <a:cubicBezTo>
                    <a:pt x="1272" y="400"/>
                    <a:pt x="1332" y="392"/>
                    <a:pt x="1392" y="384"/>
                  </a:cubicBezTo>
                </a:path>
              </a:pathLst>
            </a:custGeom>
            <a:noFill/>
            <a:ln w="1908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39680" y="2293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</a:t>
              </a:r>
              <a:r>
                <a:rPr b="0" lang="de-DE" sz="2400" spc="-1" strike="noStrike" baseline="-25000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67400" y="2209680"/>
            <a:ext cx="3514680" cy="1695600"/>
            <a:chOff x="4667400" y="2209680"/>
            <a:chExt cx="3514680" cy="16956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4667400" y="2209680"/>
              <a:ext cx="17049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054040" y="2362320"/>
              <a:ext cx="3128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 · 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 – 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B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1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 · 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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r>
                <a:rPr b="0" lang="de-DE" sz="18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r>
                <a:rPr b="0" lang="de-DE" sz="18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CAF5-3042-4F1A-87E4-7967DA0BD6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26680" y="457200"/>
            <a:ext cx="808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usammensetzen von Atomhüllen a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etzten H-Atom-Orbita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218600" y="251460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2, 3, 4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12408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…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373392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…,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B89D-46AE-4677-B6D5-46466046A4E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380120" cy="565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3320" y="1905120"/>
            <a:ext cx="8915400" cy="2824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9800" y="2514600"/>
            <a:ext cx="4529160" cy="5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3120" y="3087720"/>
            <a:ext cx="8445600" cy="50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6880" y="3660840"/>
            <a:ext cx="8445600" cy="50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8320" y="4229280"/>
            <a:ext cx="3745080" cy="50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590920" y="4876920"/>
          <a:ext cx="335268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876920"/>
                    <a:ext cx="33526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631A-57A9-481F-8589-A7EBAD45E0A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3320" y="609480"/>
            <a:ext cx="8915400" cy="5854680"/>
            <a:chOff x="103320" y="609480"/>
            <a:chExt cx="8915400" cy="58546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52280" y="609480"/>
              <a:ext cx="438012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03320" y="1905120"/>
              <a:ext cx="891540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7200" y="56386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70113"/>
                  </a:solidFill>
                  <a:latin typeface="Arial"/>
                </a:rPr>
                <a:t>Die Mehrelektronendichte ist gleich der Summe der Einzelelektronendichte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2590920" y="4876920"/>
            <a:ext cx="3352680" cy="5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4876920"/>
                      <a:ext cx="33526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A2D8-B700-4F27-8A01-534C5C0AC0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2590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Ein Elektron interferiert nur mit sich selbst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57200" y="4876920"/>
            <a:ext cx="8001000" cy="1587240"/>
            <a:chOff x="457200" y="4876920"/>
            <a:chExt cx="8001000" cy="1587240"/>
          </a:xfrm>
        </p:grpSpPr>
        <p:sp>
          <p:nvSpPr>
            <p:cNvPr id="164" name=""/>
            <p:cNvSpPr/>
            <p:nvPr/>
          </p:nvSpPr>
          <p:spPr>
            <a:xfrm>
              <a:off x="457200" y="56386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70113"/>
                  </a:solidFill>
                  <a:latin typeface="Arial"/>
                </a:rPr>
                <a:t>Die Mehrelektronendichte ist gleich der Summe der Einzelelektronendichte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2590920" y="4876920"/>
            <a:ext cx="3352680" cy="53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4876920"/>
                      <a:ext cx="335268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F08F8-6E1F-451E-B27A-8E1E4E6340F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252960" cy="801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2743200" cy="434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0880" y="2743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Elektron = eine Elementarportion Elektron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35053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ei Elektronen </a:t>
            </a:r>
            <a:r>
              <a:rPr b="0" lang="de-DE" sz="18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uchenteig für zwei Brez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62CD-94C5-41FF-BEE0-755EA47F92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MacLager:in Arbeit:Fobi Quanten:FoBi Quanten Videos :Basiswechsel.mov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800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4920" y="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ybridorb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8A56-0C26-4FCE-AABB-4FF0695157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134080" y="83808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e sieht ein Atom a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3EC0B-B1B8-4C22-8672-04713A12867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MacLager:in Arbeit:Fobi Quanten:FoBi Quanten Videos :Bor 1dim Mannigfaltigkeit.mov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8280" cy="6095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Formen des Bor-Atoms bilden eine eindimensionale Mannigfaltigk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B5FE-42B8-49F0-A11D-73C5F6DF773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9160" y="38088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m Umgang mit dem Begr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E240-501D-495C-9242-1983DC74ED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304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Schroedel, Chemie heute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Die Wellenfunktionen </a:t>
            </a:r>
            <a:r>
              <a:rPr b="0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 heute auch Orbitale oder Zustandsfunktionen genannt, geben eine mathemat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Beschreibung für das Elektron....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160" y="563868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Orbital: Einelektronenwellen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2920" y="480060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AO: Linear combination of atomic orb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12F2-B7F7-45F3-8374-0193E2E505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60948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dtv-Atlas Chemie: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Stattdessen gilt die Bezeichnung Atomorbital (Orbital) für die Aufenthaltswahrscheinlichkeit eines Elektrons (Elektronendichteverteilung) innerhalb eines Atoms. Quantenmechanisch wird jedes Orbital durch seine eigene Wellenfunktion beschrieben </a:t>
            </a:r>
            <a:r>
              <a:rPr b="0" i="1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beschrieben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1400" y="579132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Orbital: Quadrat der Einelektronenwellen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D59A-BD40-4158-8FAC-36B735D8CBC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cLager:in Arbeit:Fobi Quanten:FoBi Quanten Videos :3D, n=3, l=1.mov" descr=""/>
          <p:cNvPicPr/>
          <p:nvPr/>
        </p:nvPicPr>
        <p:blipFill>
          <a:blip r:embed="rId1"/>
          <a:stretch/>
        </p:blipFill>
        <p:spPr>
          <a:xfrm>
            <a:off x="838080" y="812880"/>
            <a:ext cx="7772400" cy="6045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1160" y="15228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...–1....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C8192-A953-4BF2-AED0-4EBAFB77522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4040" y="129528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Orbital: Quadrat der Einelektronenwellen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760" y="68580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Orbital: Einelektronenwellenfun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2096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Das Orbital ist besetzt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0519-17FE-4399-8EF3-7E74007D8DD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43480" y="3808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le Sch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B84A-CC59-4981-B300-3B38DFB308E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9880" y="3808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stheorem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2040" y="16765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Zahlenmystik, sond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3840" y="251460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le Schalen sind kugelsymmetris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B699-B23D-47BC-B39A-1C4567D40840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4840" y="1219320"/>
            <a:ext cx="82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Wenn eine Unterschale voll ist, ist die Elektroniumvertei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113"/>
                </a:solidFill>
                <a:latin typeface="Arial"/>
              </a:rPr>
              <a:t>kugelsymmetr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4200" y="941400"/>
            <a:ext cx="8471160" cy="1363680"/>
          </a:xfrm>
          <a:custGeom>
            <a:avLst/>
            <a:gdLst/>
            <a:ahLst/>
            <a:rect l="l" t="t" r="r" b="b"/>
            <a:pathLst>
              <a:path w="5336" h="859">
                <a:moveTo>
                  <a:pt x="124" y="711"/>
                </a:moveTo>
                <a:cubicBezTo>
                  <a:pt x="72" y="699"/>
                  <a:pt x="84" y="693"/>
                  <a:pt x="50" y="659"/>
                </a:cubicBezTo>
                <a:cubicBezTo>
                  <a:pt x="47" y="650"/>
                  <a:pt x="35" y="613"/>
                  <a:pt x="35" y="607"/>
                </a:cubicBezTo>
                <a:cubicBezTo>
                  <a:pt x="35" y="596"/>
                  <a:pt x="0" y="278"/>
                  <a:pt x="109" y="244"/>
                </a:cubicBezTo>
                <a:cubicBezTo>
                  <a:pt x="161" y="193"/>
                  <a:pt x="233" y="150"/>
                  <a:pt x="302" y="125"/>
                </a:cubicBezTo>
                <a:cubicBezTo>
                  <a:pt x="602" y="148"/>
                  <a:pt x="750" y="136"/>
                  <a:pt x="1139" y="133"/>
                </a:cubicBezTo>
                <a:cubicBezTo>
                  <a:pt x="1605" y="85"/>
                  <a:pt x="2069" y="19"/>
                  <a:pt x="2539" y="0"/>
                </a:cubicBezTo>
                <a:cubicBezTo>
                  <a:pt x="3264" y="9"/>
                  <a:pt x="3982" y="45"/>
                  <a:pt x="4709" y="51"/>
                </a:cubicBezTo>
                <a:cubicBezTo>
                  <a:pt x="4793" y="57"/>
                  <a:pt x="4870" y="73"/>
                  <a:pt x="4954" y="81"/>
                </a:cubicBezTo>
                <a:cubicBezTo>
                  <a:pt x="4986" y="88"/>
                  <a:pt x="5017" y="96"/>
                  <a:pt x="5050" y="103"/>
                </a:cubicBezTo>
                <a:cubicBezTo>
                  <a:pt x="5118" y="130"/>
                  <a:pt x="5183" y="148"/>
                  <a:pt x="5257" y="155"/>
                </a:cubicBezTo>
                <a:cubicBezTo>
                  <a:pt x="5283" y="194"/>
                  <a:pt x="5288" y="218"/>
                  <a:pt x="5309" y="259"/>
                </a:cubicBezTo>
                <a:cubicBezTo>
                  <a:pt x="5326" y="338"/>
                  <a:pt x="5336" y="414"/>
                  <a:pt x="5309" y="496"/>
                </a:cubicBezTo>
                <a:cubicBezTo>
                  <a:pt x="5303" y="513"/>
                  <a:pt x="5297" y="551"/>
                  <a:pt x="5280" y="562"/>
                </a:cubicBezTo>
                <a:cubicBezTo>
                  <a:pt x="5236" y="589"/>
                  <a:pt x="5155" y="595"/>
                  <a:pt x="5109" y="599"/>
                </a:cubicBezTo>
                <a:cubicBezTo>
                  <a:pt x="4978" y="609"/>
                  <a:pt x="4847" y="613"/>
                  <a:pt x="4717" y="622"/>
                </a:cubicBezTo>
                <a:cubicBezTo>
                  <a:pt x="4574" y="631"/>
                  <a:pt x="4429" y="631"/>
                  <a:pt x="4287" y="651"/>
                </a:cubicBezTo>
                <a:cubicBezTo>
                  <a:pt x="4118" y="673"/>
                  <a:pt x="3951" y="698"/>
                  <a:pt x="3783" y="718"/>
                </a:cubicBezTo>
                <a:cubicBezTo>
                  <a:pt x="3655" y="733"/>
                  <a:pt x="3533" y="767"/>
                  <a:pt x="3406" y="777"/>
                </a:cubicBezTo>
                <a:cubicBezTo>
                  <a:pt x="3297" y="796"/>
                  <a:pt x="3351" y="789"/>
                  <a:pt x="3243" y="799"/>
                </a:cubicBezTo>
                <a:cubicBezTo>
                  <a:pt x="3156" y="814"/>
                  <a:pt x="3071" y="823"/>
                  <a:pt x="2983" y="829"/>
                </a:cubicBezTo>
                <a:cubicBezTo>
                  <a:pt x="2889" y="841"/>
                  <a:pt x="2796" y="852"/>
                  <a:pt x="2702" y="859"/>
                </a:cubicBezTo>
                <a:cubicBezTo>
                  <a:pt x="2577" y="853"/>
                  <a:pt x="2455" y="845"/>
                  <a:pt x="2332" y="837"/>
                </a:cubicBezTo>
                <a:cubicBezTo>
                  <a:pt x="2218" y="819"/>
                  <a:pt x="2105" y="809"/>
                  <a:pt x="1991" y="799"/>
                </a:cubicBezTo>
                <a:cubicBezTo>
                  <a:pt x="1865" y="769"/>
                  <a:pt x="1721" y="783"/>
                  <a:pt x="1591" y="770"/>
                </a:cubicBezTo>
                <a:cubicBezTo>
                  <a:pt x="1437" y="736"/>
                  <a:pt x="1265" y="735"/>
                  <a:pt x="1109" y="725"/>
                </a:cubicBezTo>
                <a:cubicBezTo>
                  <a:pt x="985" y="708"/>
                  <a:pt x="863" y="707"/>
                  <a:pt x="739" y="703"/>
                </a:cubicBezTo>
                <a:cubicBezTo>
                  <a:pt x="536" y="664"/>
                  <a:pt x="328" y="734"/>
                  <a:pt x="124" y="711"/>
                </a:cubicBezTo>
                <a:close/>
              </a:path>
            </a:pathLst>
          </a:custGeom>
          <a:noFill/>
          <a:ln w="28440">
            <a:solidFill>
              <a:srgbClr val="c701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B15D-6967-4DD6-A6E3-78DCF71685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1160" y="152280"/>
            <a:ext cx="39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...–1....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acLager:in Arbeit:Fobi Quanten:FoBi Quanten Videos :n=3, l=1.mov" descr="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58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36C7-19FA-4392-A797-5B6BF63E51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6480" y="152280"/>
            <a:ext cx="66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...–1....+1....–2....+2....–3....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acLager:in Arbeit:Fobi Quanten:FoBi Quanten Videos :n=4, l=3.mov" descr=""/>
          <p:cNvPicPr/>
          <p:nvPr/>
        </p:nvPicPr>
        <p:blipFill>
          <a:blip r:embed="rId1"/>
          <a:stretch/>
        </p:blipFill>
        <p:spPr>
          <a:xfrm>
            <a:off x="-30492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1DEE-BD0B-40A4-A3B9-2FF76F700F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cLager:in Arbeit:Fobi Quanten:FoBi Quanten Videos :n=4, l=3 gleichzeitig.mov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6480" y="152280"/>
            <a:ext cx="66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...–1....+1....–2....+2....–3....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A859-7144-42F0-9CB7-75B5414FBF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..–1...+1...–2...+2...–3...+3...–4...+4...–5...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0880" y="6858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D765-EE9D-45A1-A232-0D910C89A1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56640" y="66600"/>
            <a:ext cx="402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2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....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7924680" cy="5251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6560" y="5097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E33D-94F7-4E28-B924-CD1196737B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0:07:34Z</dcterms:created>
  <dc:creator>Friedrich Herrmann</dc:creator>
  <dc:description/>
  <dc:language>en-US</dc:language>
  <cp:lastModifiedBy>Friedrich Herrmann</cp:lastModifiedBy>
  <dcterms:modified xsi:type="dcterms:W3CDTF">2007-03-02T09:41:13Z</dcterms:modified>
  <cp:revision>44</cp:revision>
  <dc:subject/>
  <dc:title>PowerPoint-Präsentation</dc:title>
</cp:coreProperties>
</file>