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5.png" ContentType="image/png"/>
  <Override PartName="/ppt/media/image30.png" ContentType="image/png"/>
  <Override PartName="/ppt/media/image10.png" ContentType="image/png"/>
  <Override PartName="/ppt/media/image27.jpeg" ContentType="image/jpe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1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8.jpeg" ContentType="image/jpeg"/>
  <Override PartName="/ppt/media/image19.png" ContentType="image/png"/>
  <Override PartName="/ppt/media/image21.png" ContentType="image/png"/>
  <Override PartName="/ppt/media/image24.jpeg" ContentType="image/jpeg"/>
  <Override PartName="/ppt/media/image22.png" ContentType="image/png"/>
  <Override PartName="/ppt/media/image12.png" ContentType="image/png"/>
  <Override PartName="/ppt/media/image23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5236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981000"/>
            <a:ext cx="7772400" cy="24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652920"/>
            <a:ext cx="7772400" cy="24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5236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981000"/>
            <a:ext cx="3792600" cy="24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981000"/>
            <a:ext cx="3792600" cy="24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652920"/>
            <a:ext cx="3792600" cy="24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652920"/>
            <a:ext cx="3792600" cy="24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5236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981000"/>
            <a:ext cx="2502360" cy="24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981000"/>
            <a:ext cx="2502360" cy="24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981000"/>
            <a:ext cx="2502360" cy="24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652920"/>
            <a:ext cx="2502360" cy="24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652920"/>
            <a:ext cx="2502360" cy="24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652920"/>
            <a:ext cx="2502360" cy="24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5236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981000"/>
            <a:ext cx="7772400" cy="51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5236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981000"/>
            <a:ext cx="7772400" cy="511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5236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981000"/>
            <a:ext cx="3792600" cy="511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981000"/>
            <a:ext cx="3792600" cy="511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5236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333000"/>
            <a:ext cx="7772400" cy="138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5236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981000"/>
            <a:ext cx="3792600" cy="24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981000"/>
            <a:ext cx="3792600" cy="511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652920"/>
            <a:ext cx="3792600" cy="24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5236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981000"/>
            <a:ext cx="3792600" cy="511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981000"/>
            <a:ext cx="3792600" cy="24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652920"/>
            <a:ext cx="3792600" cy="24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5236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981000"/>
            <a:ext cx="3792600" cy="24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981000"/>
            <a:ext cx="3792600" cy="24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652920"/>
            <a:ext cx="7772400" cy="24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981000"/>
            <a:ext cx="7772400" cy="511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16200000">
            <a:off x="7251120" y="4584600"/>
            <a:ext cx="3479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Quantenphysik in elementaren Portion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763120" y="661356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F8F01-A58B-46A3-9099-98938C8C599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 rot="16200000">
            <a:off x="-1587240" y="4584600"/>
            <a:ext cx="3479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chael Pohlig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hyperlink" Target="file:///210_100_Uebergang-2D.mov" TargetMode="External"/><Relationship Id="rId4" Type="http://schemas.openxmlformats.org/officeDocument/2006/relationships/hyperlink" Target="file:///210_100_Uebergang-2D-schrittweise.mov" TargetMode="External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hyperlink" Target="file:///431_210_Uebergang-2D.mov" TargetMode="External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8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image" Target="../media/image18.png"/><Relationship Id="rId12" Type="http://schemas.openxmlformats.org/officeDocument/2006/relationships/image" Target="../media/image19.png"/><Relationship Id="rId13" Type="http://schemas.openxmlformats.org/officeDocument/2006/relationships/image" Target="../media/image20.png"/><Relationship Id="rId1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900000" y="870120"/>
            <a:ext cx="720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as Wasserstoffato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01640" y="2897280"/>
            <a:ext cx="5867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ichael Pohli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G-Durmersheim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ichael@pohlig.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4724280"/>
            <a:ext cx="78483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Literatur: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ronner, Hauptmann, Herrmann: Wie sieht ein Atom aus? (PdN-PhiS 2/55 Jg 2006)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D Das Wasserstoffatom im Bild (Aulis Verlag Deubner)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errmann: Skriptum für SII; http://www.physikdidaktik.uni-karlsruhe.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5.03.2007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Stationäre Zuständ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3 Termsche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8035" t="29021" r="42310" b="4749"/>
          <a:stretch/>
        </p:blipFill>
        <p:spPr>
          <a:xfrm>
            <a:off x="1846440" y="1557360"/>
            <a:ext cx="4297320" cy="429732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2843280" y="1197000"/>
            <a:ext cx="40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c0"/>
                </a:solidFill>
                <a:latin typeface="Times New Roman"/>
              </a:rPr>
              <a:t>n</a:t>
            </a:r>
            <a:r>
              <a:rPr b="0" lang="de-DE" sz="2400" spc="-1" strike="noStrike">
                <a:solidFill>
                  <a:srgbClr val="ff0217"/>
                </a:solidFill>
                <a:latin typeface="Times New Roman"/>
              </a:rPr>
              <a:t>s</a:t>
            </a:r>
            <a:r>
              <a:rPr b="0" lang="de-DE" sz="2400" spc="-1" strike="noStrike">
                <a:solidFill>
                  <a:srgbClr val="0000c0"/>
                </a:solidFill>
                <a:latin typeface="Times New Roman"/>
              </a:rPr>
              <a:t>     </a:t>
            </a:r>
            <a:r>
              <a:rPr b="0" i="1" lang="de-DE" sz="2400" spc="-1" strike="noStrike">
                <a:solidFill>
                  <a:srgbClr val="0000c0"/>
                </a:solidFill>
                <a:latin typeface="Times New Roman"/>
              </a:rPr>
              <a:t>n</a:t>
            </a:r>
            <a:r>
              <a:rPr b="0" lang="de-DE" sz="2400" spc="-1" strike="noStrike">
                <a:solidFill>
                  <a:srgbClr val="ff0217"/>
                </a:solidFill>
                <a:latin typeface="Times New Roman"/>
              </a:rPr>
              <a:t>p</a:t>
            </a:r>
            <a:r>
              <a:rPr b="0" lang="de-DE" sz="2400" spc="-1" strike="noStrike">
                <a:solidFill>
                  <a:srgbClr val="0000c0"/>
                </a:solidFill>
                <a:latin typeface="Times New Roman"/>
              </a:rPr>
              <a:t>     </a:t>
            </a:r>
            <a:r>
              <a:rPr b="0" i="1" lang="de-DE" sz="2400" spc="-1" strike="noStrike">
                <a:solidFill>
                  <a:srgbClr val="0000c0"/>
                </a:solidFill>
                <a:latin typeface="Times New Roman"/>
              </a:rPr>
              <a:t>n</a:t>
            </a:r>
            <a:r>
              <a:rPr b="0" lang="de-DE" sz="2400" spc="-1" strike="noStrike">
                <a:solidFill>
                  <a:srgbClr val="ff0217"/>
                </a:solidFill>
                <a:latin typeface="Times New Roman"/>
              </a:rPr>
              <a:t>d</a:t>
            </a:r>
            <a:r>
              <a:rPr b="0" lang="de-DE" sz="2400" spc="-1" strike="noStrike">
                <a:solidFill>
                  <a:srgbClr val="0000c0"/>
                </a:solidFill>
                <a:latin typeface="Times New Roman"/>
              </a:rPr>
              <a:t>     </a:t>
            </a:r>
            <a:r>
              <a:rPr b="0" i="1" lang="de-DE" sz="2400" spc="-1" strike="noStrike">
                <a:solidFill>
                  <a:srgbClr val="0000c0"/>
                </a:solidFill>
                <a:latin typeface="Times New Roman"/>
              </a:rPr>
              <a:t>n</a:t>
            </a:r>
            <a:r>
              <a:rPr b="0" lang="de-DE" sz="2400" spc="-1" strike="noStrike">
                <a:solidFill>
                  <a:srgbClr val="ff0217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5.03.2007</a:t>
            </a:r>
          </a:p>
        </p:txBody>
      </p:sp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Stationäre Zuständ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4 Entartete Zustän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rcRect l="8035" t="29021" r="42310" b="4749"/>
          <a:stretch/>
        </p:blipFill>
        <p:spPr>
          <a:xfrm>
            <a:off x="4788000" y="1125360"/>
            <a:ext cx="3058920" cy="30592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6084720" y="115920"/>
                <a:ext cx="2521080" cy="69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Ψ</m:t>
                    </m:r>
                    <m:r>
                      <m:t xml:space="preserve">(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(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f>
                          <m:num>
                            <m:r>
                              <m:t xml:space="preserve">i</m:t>
                            </m:r>
                          </m:num>
                          <m:den>
                            <m:r>
                              <m:t xml:space="preserve">ℏ</m:t>
                            </m:r>
                          </m:den>
                        </m:f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08" name=""/>
          <p:cNvSpPr/>
          <p:nvPr/>
        </p:nvSpPr>
        <p:spPr>
          <a:xfrm>
            <a:off x="5580000" y="2708280"/>
            <a:ext cx="3311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K von Zuständen gleicher Energi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293760" y="907920"/>
                <a:ext cx="3701880" cy="290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Ψ</m:t>
                        </m:r>
                        <m:r>
                          <m:t xml:space="preserve">(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it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gleichem</m:t>
                            </m:r>
                            <m:r>
                              <m:t xml:space="preserve"> </m:t>
                            </m:r>
                            <m:r>
                              <m:t xml:space="preserve">E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  <m:r>
                              <m:t xml:space="preserve">)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f>
                                  <m:num>
                                    <m:r>
                                      <m:t xml:space="preserve">i</m:t>
                                    </m:r>
                                  </m:num>
                                  <m:den>
                                    <m:r>
                                      <m:t xml:space="preserve">ℏ</m:t>
                                    </m:r>
                                  </m:den>
                                </m:f>
                                <m:sSub>
                                  <m:e>
                                    <m:r>
                                      <m:t xml:space="preserve">E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r>
                                  <m:t xml:space="preserve">t</m:t>
                                </m:r>
                              </m:sup>
                            </m:sSup>
                          </m:e>
                        </m:nary>
                      </m:e>
                      <m:e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it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gleichem</m:t>
                            </m:r>
                            <m:r>
                              <m:t xml:space="preserve"> </m:t>
                            </m:r>
                            <m:r>
                              <m:t xml:space="preserve">E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  <m:r>
                              <m:t xml:space="preserve">)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f>
                                  <m:num>
                                    <m:r>
                                      <m:t xml:space="preserve">i</m:t>
                                    </m:r>
                                  </m:num>
                                  <m:den>
                                    <m:r>
                                      <m:t xml:space="preserve">ℏ</m:t>
                                    </m:r>
                                  </m:den>
                                </m:f>
                                <m:r>
                                  <m:rPr>
                                    <m:lit/>
                                    <m:nor/>
                                  </m:rPr>
                                  <m:t xml:space="preserve">Et</m:t>
                                </m:r>
                              </m:sup>
                            </m:sSup>
                          </m:e>
                        </m:nary>
                      </m:e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i</m:t>
                                </m:r>
                              </m:num>
                              <m:den>
                                <m:r>
                                  <m:t xml:space="preserve">ℏ</m:t>
                                </m:r>
                              </m:den>
                            </m:f>
                            <m:r>
                              <m:rPr>
                                <m:lit/>
                                <m:nor/>
                              </m:rPr>
                              <m:t xml:space="preserve">Et</m:t>
                            </m:r>
                          </m:sup>
                        </m:sSup>
                        <m:r>
                          <m:t xml:space="preserve">⋅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it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gleichem</m:t>
                            </m:r>
                            <m:r>
                              <m:t xml:space="preserve"> </m:t>
                            </m:r>
                            <m:r>
                              <m:t xml:space="preserve">E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  <m:r>
                              <m:t xml:space="preserve">)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911160" y="4292640"/>
                <a:ext cx="5580000" cy="220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ρ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Ψ</m:t>
                            </m:r>
                          </m:e>
                          <m:sup/>
                        </m:sSup>
                        <m:r>
                          <m:t xml:space="preserve">(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t xml:space="preserve">Ψ</m:t>
                        </m:r>
                        <m:r>
                          <m:t xml:space="preserve">(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i</m:t>
                                </m:r>
                              </m:num>
                              <m:den>
                                <m:r>
                                  <m:t xml:space="preserve">ℏ</m:t>
                                </m:r>
                              </m:den>
                            </m:f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sup>
                        </m:sSup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it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gleichem</m:t>
                            </m:r>
                            <m:r>
                              <m:t xml:space="preserve"> </m:t>
                            </m:r>
                            <m:r>
                              <m:t xml:space="preserve">E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  <m:sup/>
                            </m:sSubSup>
                            <m:r>
                              <m:t xml:space="preserve">(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  <m:r>
                              <m:t xml:space="preserve">)</m:t>
                            </m:r>
                          </m:e>
                        </m:nary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i</m:t>
                                </m:r>
                              </m:num>
                              <m:den>
                                <m:r>
                                  <m:t xml:space="preserve">ℏ</m:t>
                                </m:r>
                              </m:den>
                            </m:f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sup>
                        </m:sSup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it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gleichem</m:t>
                            </m:r>
                            <m:r>
                              <m:t xml:space="preserve"> </m:t>
                            </m:r>
                            <m:r>
                              <m:t xml:space="preserve">E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  <m:r>
                              <m:t xml:space="preserve">)</m:t>
                            </m:r>
                          </m:e>
                        </m:nary>
                      </m:e>
                      <m:e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it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gleichem</m:t>
                            </m:r>
                            <m:r>
                              <m:t xml:space="preserve"> </m:t>
                            </m:r>
                            <m:r>
                              <m:t xml:space="preserve">E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  <m:sup/>
                            </m:sSubSup>
                            <m:r>
                              <m:t xml:space="preserve">(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  <m:r>
                              <m:t xml:space="preserve">)</m:t>
                            </m:r>
                          </m:e>
                        </m:nary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it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gleichem</m:t>
                            </m:r>
                            <m:r>
                              <m:t xml:space="preserve"> </m:t>
                            </m:r>
                            <m:r>
                              <m:t xml:space="preserve">E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  <m:r>
                              <m:t xml:space="preserve">)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2843280" y="6237360"/>
            <a:ext cx="431640" cy="0"/>
          </a:xfrm>
          <a:prstGeom prst="line">
            <a:avLst/>
          </a:prstGeom>
          <a:ln w="57240">
            <a:solidFill>
              <a:srgbClr val="ff02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716360" y="6237360"/>
            <a:ext cx="432000" cy="0"/>
          </a:xfrm>
          <a:prstGeom prst="line">
            <a:avLst/>
          </a:prstGeom>
          <a:ln w="57240">
            <a:solidFill>
              <a:srgbClr val="ff02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372360" y="595008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217"/>
                </a:solidFill>
                <a:latin typeface="Arial"/>
              </a:rPr>
              <a:t>zeitunabhängi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5.03.2007</a:t>
            </a:r>
          </a:p>
        </p:txBody>
      </p:sp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Stationäre Zuständ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4 Entartete Zustän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684360" y="1989000"/>
          <a:ext cx="2705040" cy="263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989000"/>
                    <a:ext cx="2705040" cy="26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7" name="" descr=""/>
          <p:cNvPicPr/>
          <p:nvPr/>
        </p:nvPicPr>
        <p:blipFill>
          <a:blip r:embed="rId3"/>
          <a:srcRect l="8035" t="29021" r="42310" b="4749"/>
          <a:stretch/>
        </p:blipFill>
        <p:spPr>
          <a:xfrm>
            <a:off x="3924360" y="1557360"/>
            <a:ext cx="4297320" cy="429732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4883040" y="2765520"/>
            <a:ext cx="1297080" cy="503280"/>
          </a:xfrm>
          <a:prstGeom prst="rect">
            <a:avLst/>
          </a:prstGeom>
          <a:noFill/>
          <a:ln w="38160">
            <a:solidFill>
              <a:srgbClr val="ff02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55640" y="5013360"/>
            <a:ext cx="2592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Überlagerung der 2s-2p-Zustände: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Hybrid-Orbi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5.03.2007</a:t>
            </a:r>
          </a:p>
        </p:txBody>
      </p:sp>
    </p:spTree>
  </p:cSld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25236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566640" y="2133720"/>
            <a:ext cx="8010720" cy="3262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5.03.2007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Übergäng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1 Dipolstrahlu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9138"/>
          <a:stretch/>
        </p:blipFill>
        <p:spPr>
          <a:xfrm>
            <a:off x="1258920" y="1341360"/>
            <a:ext cx="2743200" cy="260028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rcRect l="0" t="0" r="0" b="7412"/>
          <a:stretch/>
        </p:blipFill>
        <p:spPr>
          <a:xfrm>
            <a:off x="5219640" y="1346040"/>
            <a:ext cx="2665440" cy="25815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1243080" y="4879800"/>
            <a:ext cx="368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hlinkClick r:id="rId3"/>
              </a:rPr>
              <a:t>Übergang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Dichte Strobosk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43080" y="4446720"/>
            <a:ext cx="25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hlinkClick r:id="rId4"/>
              </a:rPr>
              <a:t>Übergang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Dich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111640" y="4481640"/>
            <a:ext cx="392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ne Schwingung: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-15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zahl der Schwingungen: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7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uer des Übergangs: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-8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243080" y="5322960"/>
            <a:ext cx="25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Übergang 3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111640" y="5769000"/>
            <a:ext cx="331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de-DE" sz="2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±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1: Dipolcharak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258920" y="1015920"/>
            <a:ext cx="151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2,1,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219640" y="1015920"/>
            <a:ext cx="151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1,0,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5.03.2007</a:t>
            </a:r>
          </a:p>
        </p:txBody>
      </p:sp>
    </p:spTree>
  </p:cSld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3. Übergänge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3.2 Termschenma-Übergä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8035" t="29021" r="42310" b="4749"/>
          <a:stretch/>
        </p:blipFill>
        <p:spPr>
          <a:xfrm>
            <a:off x="755640" y="1413000"/>
            <a:ext cx="4297320" cy="4297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5.03.2007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3. Übergänge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3.3 Quadrupolstrahl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5219640" y="996840"/>
            <a:ext cx="2665440" cy="2925720"/>
            <a:chOff x="5219640" y="996840"/>
            <a:chExt cx="2665440" cy="2925720"/>
          </a:xfrm>
        </p:grpSpPr>
        <p:pic>
          <p:nvPicPr>
            <p:cNvPr id="136" name="" descr=""/>
            <p:cNvPicPr/>
            <p:nvPr/>
          </p:nvPicPr>
          <p:blipFill>
            <a:blip r:embed="rId1"/>
            <a:srcRect l="0" t="0" r="0" b="7412"/>
            <a:stretch/>
          </p:blipFill>
          <p:spPr>
            <a:xfrm>
              <a:off x="5219640" y="1341360"/>
              <a:ext cx="2665440" cy="258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/>
            <p:nvPr/>
          </p:nvSpPr>
          <p:spPr>
            <a:xfrm>
              <a:off x="5219640" y="996840"/>
              <a:ext cx="1584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(2,1,0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1258920" y="1000080"/>
            <a:ext cx="2581200" cy="2933640"/>
            <a:chOff x="1258920" y="1000080"/>
            <a:chExt cx="2581200" cy="2933640"/>
          </a:xfrm>
        </p:grpSpPr>
        <p:pic>
          <p:nvPicPr>
            <p:cNvPr id="139" name="" descr=""/>
            <p:cNvPicPr/>
            <p:nvPr/>
          </p:nvPicPr>
          <p:blipFill>
            <a:blip r:embed="rId2"/>
            <a:srcRect l="0" t="0" r="0" b="4023"/>
            <a:stretch/>
          </p:blipFill>
          <p:spPr>
            <a:xfrm>
              <a:off x="1258920" y="1341360"/>
              <a:ext cx="2581200" cy="259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"/>
            <p:cNvSpPr/>
            <p:nvPr/>
          </p:nvSpPr>
          <p:spPr>
            <a:xfrm>
              <a:off x="1258920" y="1000080"/>
              <a:ext cx="1441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(4,3,1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1" name=""/>
          <p:cNvSpPr/>
          <p:nvPr/>
        </p:nvSpPr>
        <p:spPr>
          <a:xfrm>
            <a:off x="1258920" y="4437000"/>
            <a:ext cx="29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hlinkClick r:id="rId3"/>
              </a:rPr>
              <a:t>Übergang Strobosk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076720" y="4653000"/>
            <a:ext cx="331308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de-DE" sz="2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= 0 oder </a:t>
            </a:r>
            <a:r>
              <a:rPr b="1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de-DE" sz="2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±2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: Quadrupolcharak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5.03.2007</a:t>
            </a:r>
          </a:p>
        </p:txBody>
      </p:sp>
    </p:spTree>
  </p:cSld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3. Übergänge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3.4 Beispiele von Quadrupolstrahlung und höhere Anregu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906560" y="1484280"/>
            <a:ext cx="244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3,1,1) – (2,1,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06560" y="2246400"/>
            <a:ext cx="244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4,3,0) – (2,1,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06560" y="3009960"/>
            <a:ext cx="244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4,2,2) – (3,2,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906560" y="5192640"/>
            <a:ext cx="244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12,5,1) – (10,6,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906560" y="4429080"/>
            <a:ext cx="244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6,4,2) – (5,3,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716360" y="1484280"/>
            <a:ext cx="288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Quadrupolstrahl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716360" y="4429080"/>
            <a:ext cx="360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Übergänge hochangeregter Zustän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5.03.2007</a:t>
            </a:r>
          </a:p>
        </p:txBody>
      </p:sp>
    </p:spTree>
  </p:cSld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3. Übergänge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3.5 Vergleich Dipol- Quadrupolstrahl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539640" y="1268280"/>
            <a:ext cx="5302080" cy="3168720"/>
            <a:chOff x="539640" y="1268280"/>
            <a:chExt cx="5302080" cy="3168720"/>
          </a:xfrm>
        </p:grpSpPr>
        <p:pic>
          <p:nvPicPr>
            <p:cNvPr id="153" name="" descr=""/>
            <p:cNvPicPr/>
            <p:nvPr/>
          </p:nvPicPr>
          <p:blipFill>
            <a:blip r:embed="rId1"/>
            <a:stretch/>
          </p:blipFill>
          <p:spPr>
            <a:xfrm>
              <a:off x="539640" y="1268280"/>
              <a:ext cx="4376880" cy="316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"/>
            <p:cNvSpPr/>
            <p:nvPr/>
          </p:nvSpPr>
          <p:spPr>
            <a:xfrm>
              <a:off x="4159800" y="1944360"/>
              <a:ext cx="1681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Dipolantenn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3274920" y="3429000"/>
            <a:ext cx="5329440" cy="2519280"/>
            <a:chOff x="3274920" y="3429000"/>
            <a:chExt cx="5329440" cy="2519280"/>
          </a:xfrm>
        </p:grpSpPr>
        <p:pic>
          <p:nvPicPr>
            <p:cNvPr id="156" name="" descr=""/>
            <p:cNvPicPr/>
            <p:nvPr/>
          </p:nvPicPr>
          <p:blipFill>
            <a:blip r:embed="rId2"/>
            <a:stretch/>
          </p:blipFill>
          <p:spPr>
            <a:xfrm>
              <a:off x="3982320" y="3429000"/>
              <a:ext cx="4622040" cy="25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3274920" y="5338800"/>
              <a:ext cx="229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Quadrupolantenn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8" name=""/>
          <p:cNvSpPr/>
          <p:nvPr/>
        </p:nvSpPr>
        <p:spPr>
          <a:xfrm>
            <a:off x="6012000" y="1413000"/>
            <a:ext cx="266364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Hat die Strahlung Dipolcharakter, dann ist der Übergang „erlaubt“ (</a:t>
            </a:r>
            <a:r>
              <a:rPr b="1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de-DE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±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95280" y="4221000"/>
            <a:ext cx="2879640" cy="17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Hätte die Strahlung Quadrupolcharakter, dann ist der Übergang „nicht erlaubt“ (</a:t>
            </a:r>
            <a:r>
              <a:rPr b="1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de-DE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 = 0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oder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de-DE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±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5.03.2007</a:t>
            </a:r>
          </a:p>
        </p:txBody>
      </p:sp>
    </p:spTree>
  </p:cSld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Übergäng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6 Auswahlreg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rcRect l="8035" t="29021" r="42310" b="4749"/>
          <a:stretch/>
        </p:blipFill>
        <p:spPr>
          <a:xfrm>
            <a:off x="755640" y="1413000"/>
            <a:ext cx="4297320" cy="429732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 flipH="1">
            <a:off x="2065320" y="2319480"/>
            <a:ext cx="1152720" cy="502920"/>
          </a:xfrm>
          <a:prstGeom prst="line">
            <a:avLst/>
          </a:prstGeom>
          <a:ln w="9360">
            <a:solidFill>
              <a:srgbClr val="ff021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059280" y="3213000"/>
            <a:ext cx="1871640" cy="20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arum „widerspricht“ dieser Übergang der Auswahlreg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5364000" y="2133720"/>
            <a:ext cx="3024000" cy="703800"/>
            <a:chOff x="5364000" y="2133720"/>
            <a:chExt cx="3024000" cy="703800"/>
          </a:xfrm>
        </p:grpSpPr>
        <p:sp>
          <p:nvSpPr>
            <p:cNvPr id="165" name=""/>
            <p:cNvSpPr/>
            <p:nvPr/>
          </p:nvSpPr>
          <p:spPr>
            <a:xfrm>
              <a:off x="5364000" y="2133720"/>
              <a:ext cx="3024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Drehimpuls eines Photons: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6" name=""/>
                <p:cNvSpPr txBox="1"/>
                <p:nvPr/>
              </p:nvSpPr>
              <p:spPr>
                <a:xfrm>
                  <a:off x="6459480" y="2378160"/>
                  <a:ext cx="431640" cy="401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1</m:t>
                      </m:r>
                      <m:r>
                        <m:t xml:space="preserve">ℏ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67" name=""/>
          <p:cNvGrpSpPr/>
          <p:nvPr/>
        </p:nvGrpSpPr>
        <p:grpSpPr>
          <a:xfrm>
            <a:off x="5364000" y="3068640"/>
            <a:ext cx="2449800" cy="703800"/>
            <a:chOff x="5364000" y="3068640"/>
            <a:chExt cx="2449800" cy="703800"/>
          </a:xfrm>
        </p:grpSpPr>
        <p:sp>
          <p:nvSpPr>
            <p:cNvPr id="168" name=""/>
            <p:cNvSpPr/>
            <p:nvPr/>
          </p:nvSpPr>
          <p:spPr>
            <a:xfrm>
              <a:off x="5364000" y="3068640"/>
              <a:ext cx="2449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Übergang nur wenn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9" name=""/>
                <p:cNvSpPr txBox="1"/>
                <p:nvPr/>
              </p:nvSpPr>
              <p:spPr>
                <a:xfrm>
                  <a:off x="6126120" y="3390840"/>
                  <a:ext cx="996840" cy="358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l</m:t>
                      </m:r>
                      <m:r>
                        <m:t xml:space="preserve">=</m:t>
                      </m:r>
                      <m:r>
                        <m:t xml:space="preserve">±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70" name=""/>
          <p:cNvSpPr/>
          <p:nvPr/>
        </p:nvSpPr>
        <p:spPr>
          <a:xfrm>
            <a:off x="5364000" y="4005360"/>
            <a:ext cx="295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o ist der Drehimpuls bei Übergängen mit Quadrupolstrahlung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5.03.2007</a:t>
            </a:r>
          </a:p>
        </p:txBody>
      </p:sp>
    </p:spTree>
  </p:cSld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Übersic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566640" y="2133720"/>
            <a:ext cx="8010720" cy="3262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5.03.2007</a:t>
            </a: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Übergäng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7 Verbotene Übergä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rcRect l="8035" t="29021" r="42310" b="4749"/>
          <a:stretch/>
        </p:blipFill>
        <p:spPr>
          <a:xfrm>
            <a:off x="755640" y="1413000"/>
            <a:ext cx="4297320" cy="4297320"/>
          </a:xfrm>
          <a:prstGeom prst="rect">
            <a:avLst/>
          </a:prstGeom>
          <a:ln w="0">
            <a:noFill/>
          </a:ln>
        </p:spPr>
      </p:pic>
      <p:grpSp>
        <p:nvGrpSpPr>
          <p:cNvPr id="173" name=""/>
          <p:cNvGrpSpPr/>
          <p:nvPr/>
        </p:nvGrpSpPr>
        <p:grpSpPr>
          <a:xfrm>
            <a:off x="1835280" y="2060640"/>
            <a:ext cx="433080" cy="3384360"/>
            <a:chOff x="1835280" y="2060640"/>
            <a:chExt cx="433080" cy="3384360"/>
          </a:xfrm>
        </p:grpSpPr>
        <p:sp>
          <p:nvSpPr>
            <p:cNvPr id="174" name=""/>
            <p:cNvSpPr/>
            <p:nvPr/>
          </p:nvSpPr>
          <p:spPr>
            <a:xfrm>
              <a:off x="1981080" y="2205000"/>
              <a:ext cx="0" cy="324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268360" y="2852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124000" y="2349360"/>
              <a:ext cx="0" cy="309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835280" y="2060640"/>
              <a:ext cx="0" cy="338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8" name=""/>
          <p:cNvSpPr/>
          <p:nvPr/>
        </p:nvSpPr>
        <p:spPr>
          <a:xfrm>
            <a:off x="2987640" y="3213000"/>
            <a:ext cx="1871640" cy="22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rum sind diese Übergänge „verboten“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rcRect l="0" t="0" r="0" b="4263"/>
          <a:stretch/>
        </p:blipFill>
        <p:spPr>
          <a:xfrm>
            <a:off x="5651640" y="981000"/>
            <a:ext cx="2592360" cy="259236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rcRect l="0" t="0" r="0" b="6283"/>
          <a:stretch/>
        </p:blipFill>
        <p:spPr>
          <a:xfrm>
            <a:off x="5651640" y="3710160"/>
            <a:ext cx="2592360" cy="256356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2268360" y="2852640"/>
            <a:ext cx="0" cy="2592360"/>
          </a:xfrm>
          <a:prstGeom prst="line">
            <a:avLst/>
          </a:prstGeom>
          <a:ln w="28440">
            <a:solidFill>
              <a:srgbClr val="ff021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547640" y="5877000"/>
            <a:ext cx="302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 tun als ging 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5.03.2007</a:t>
            </a:r>
          </a:p>
        </p:txBody>
      </p:sp>
    </p:spTree>
  </p:cSld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3. Übergänge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3.8 Strömendes Elektroni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1258920" y="1266840"/>
          <a:ext cx="2619360" cy="26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1266840"/>
                    <a:ext cx="2619360" cy="26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6" name=""/>
          <p:cNvGraphicFramePr/>
          <p:nvPr/>
        </p:nvGraphicFramePr>
        <p:xfrm>
          <a:off x="3419640" y="3933720"/>
          <a:ext cx="5067000" cy="2533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19640" y="3933720"/>
                    <a:ext cx="5067000" cy="253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8" name=""/>
          <p:cNvSpPr/>
          <p:nvPr/>
        </p:nvSpPr>
        <p:spPr>
          <a:xfrm>
            <a:off x="4788000" y="1844640"/>
            <a:ext cx="3313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lektroniumdichte im Schnitt und Strömung des Elektroniums durch Pfeile angedeut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39640" y="4292640"/>
            <a:ext cx="2664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lektroniumdichte in 2D Darstellung und Stromdichte: rot aus der Bildebene heraus, blau in die Bildebene hine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5.03.2007</a:t>
            </a:r>
          </a:p>
        </p:txBody>
      </p:sp>
    </p:spTree>
  </p:cSld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2.Stationäre Zustände (noch einmal)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2.1 Dichte-Bilder (6,l,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3203640" y="1197000"/>
          <a:ext cx="5395680" cy="533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3640" y="1197000"/>
                    <a:ext cx="5395680" cy="533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3" name=""/>
          <p:cNvSpPr/>
          <p:nvPr/>
        </p:nvSpPr>
        <p:spPr>
          <a:xfrm>
            <a:off x="755640" y="5013360"/>
            <a:ext cx="20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 = 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5.03.2007</a:t>
            </a:r>
          </a:p>
        </p:txBody>
      </p:sp>
    </p:spTree>
  </p:cSld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Übergäng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9 Übergänge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 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971640" y="22543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2,1,0) – (1,0,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971640" y="29923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4,3,0) – (2,1,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971640" y="373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6,4,2) – (5,3,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971640" y="44719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12,5,1) – (10,6,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924360" y="2349360"/>
            <a:ext cx="4319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Ändert sich bei einem Übergang die Quantenzahl m nicht, so wird linear polarisiertes Licht ausgestrahl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5.03.2007</a:t>
            </a:r>
          </a:p>
        </p:txBody>
      </p:sp>
    </p:spTree>
  </p:cSld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3. Übergänge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3.10 Übergänge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 =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±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403280" y="2405160"/>
            <a:ext cx="216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2,1,1) – (1,0,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403280" y="3160800"/>
            <a:ext cx="216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2,1,-1) – (1,0,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924360" y="2421000"/>
            <a:ext cx="4319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Ändert sich bei einem Übergang die Quantenzahl m um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±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so wird zirkular polarisiertes Licht ausgestrahl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5.03.2007</a:t>
            </a:r>
          </a:p>
        </p:txBody>
      </p:sp>
    </p:spTree>
  </p:cSld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s fehlt noch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981000"/>
            <a:ext cx="777240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46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6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6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lder sollen folgende Eigenschaften veranschaulichen: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6680" indent="-34668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tzbeda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6680" indent="-34668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ehimpu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6680" indent="-34668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gnetism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6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6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 soll sehen können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6680" indent="-34668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rum ein Atom in bestimmten Zuständen nicht strahlt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6680" indent="-34668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rum es in anderen Zuständen strahlt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6680" indent="-346680">
              <a:lnSpc>
                <a:spcPct val="80000"/>
              </a:lnSpc>
              <a:spcBef>
                <a:spcPts val="601"/>
              </a:spcBef>
              <a:buClr>
                <a:srgbClr val="ff0217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 die Strahlung stark oder schwach ist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6680" indent="-346680">
              <a:lnSpc>
                <a:spcPct val="80000"/>
              </a:lnSpc>
              <a:spcBef>
                <a:spcPts val="601"/>
              </a:spcBef>
              <a:buClr>
                <a:srgbClr val="ff0217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 die Strahlung linear oder zirkularpolarisiert 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6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6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5.03.2007</a:t>
            </a: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s fehlt noch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981000"/>
            <a:ext cx="777240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46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6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6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lder sollen folgende Eigenschaften veranschaulichen: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6680" indent="-34668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tzbeda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6680" indent="-34668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ehimpu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6680" indent="-34668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gnetism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6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6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 soll sehen können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6680" indent="-34668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rum ein Atom in bestimmten Zuständen nicht strahlt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6680" indent="-34668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rum es in anderen Zuständen strahlt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6680" indent="-34668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 die Strahlung stark oder schwach ist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6680" indent="-34668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 die Strahlung linear oder zirkularpolarisiert 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6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6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5.03.2007</a:t>
            </a:r>
          </a:p>
        </p:txBody>
      </p:sp>
    </p:spTree>
  </p:cSld>
  <p:transition spd="med">
    <p:pull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Bilder und Legend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1 Dich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162080" y="2133720"/>
          <a:ext cx="2857320" cy="280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62080" y="2133720"/>
                    <a:ext cx="2857320" cy="280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826920" y="1341360"/>
            <a:ext cx="482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chte-Bil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5076720" y="2133720"/>
          <a:ext cx="2791080" cy="280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76720" y="2133720"/>
                    <a:ext cx="2791080" cy="28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3" name="" descr=""/>
          <p:cNvPicPr/>
          <p:nvPr/>
        </p:nvPicPr>
        <p:blipFill>
          <a:blip r:embed="rId5"/>
          <a:stretch/>
        </p:blipFill>
        <p:spPr>
          <a:xfrm>
            <a:off x="4048200" y="5373720"/>
            <a:ext cx="1047600" cy="514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5.03.2007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Bilder und Legend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2 Die 10% Fläc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1403280" y="1916280"/>
          <a:ext cx="2295720" cy="223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16280"/>
                    <a:ext cx="2295720" cy="22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/>
          <p:nvPr/>
        </p:nvSpPr>
        <p:spPr>
          <a:xfrm>
            <a:off x="4284720" y="2276640"/>
            <a:ext cx="3240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n der 3D-Darstellung der Flächen, bei denen die Dichte des Elektroniums 10% ihres Maximalwertes annimm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5.03.2007</a:t>
            </a: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Bilder und Legend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3 Schnittbil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1476360" y="1987560"/>
          <a:ext cx="2563920" cy="280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987560"/>
                    <a:ext cx="2563920" cy="280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"/>
          <p:cNvSpPr/>
          <p:nvPr/>
        </p:nvSpPr>
        <p:spPr>
          <a:xfrm>
            <a:off x="4572000" y="2708280"/>
            <a:ext cx="3456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den Schnittflächen sieht man den Verlauf der Dichte von 10% bis zu 100% maximaler Dich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995640" y="1771560"/>
            <a:ext cx="4321440" cy="576360"/>
          </a:xfrm>
          <a:prstGeom prst="wedgeRoundRectCallout">
            <a:avLst>
              <a:gd name="adj1" fmla="val -77037"/>
              <a:gd name="adj2" fmla="val 134574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ximale Dichte – 100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995640" y="4363920"/>
            <a:ext cx="4321440" cy="720720"/>
          </a:xfrm>
          <a:prstGeom prst="wedgeRoundRectCallout">
            <a:avLst>
              <a:gd name="adj1" fmla="val -55398"/>
              <a:gd name="adj2" fmla="val -95375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chte – 10% der maximalen Dich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5.03.2007</a:t>
            </a: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5236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566640" y="2133720"/>
            <a:ext cx="8010720" cy="3262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5.03.2007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2.Stationäre Zustände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2.1 Dichte-Bilder (n,l,m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6227640" y="189000"/>
                <a:ext cx="2521080" cy="69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Ψ</m:t>
                    </m:r>
                    <m:r>
                      <m:t xml:space="preserve">(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(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f>
                          <m:num>
                            <m:r>
                              <m:t xml:space="preserve">i</m:t>
                            </m:r>
                          </m:num>
                          <m:den>
                            <m:r>
                              <m:t xml:space="preserve">ℏ</m:t>
                            </m:r>
                          </m:den>
                        </m:f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92120" y="1185840"/>
            <a:ext cx="6192720" cy="9334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539640" y="981000"/>
            <a:ext cx="6126120" cy="1429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507960" y="2106720"/>
            <a:ext cx="5141880" cy="9349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4"/>
          <a:stretch/>
        </p:blipFill>
        <p:spPr>
          <a:xfrm>
            <a:off x="523800" y="3016080"/>
            <a:ext cx="4089600" cy="9352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5"/>
          <a:stretch/>
        </p:blipFill>
        <p:spPr>
          <a:xfrm>
            <a:off x="523800" y="3916440"/>
            <a:ext cx="3067200" cy="9349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6"/>
          <a:stretch/>
        </p:blipFill>
        <p:spPr>
          <a:xfrm>
            <a:off x="523800" y="4821120"/>
            <a:ext cx="2038320" cy="92736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7"/>
          <a:stretch/>
        </p:blipFill>
        <p:spPr>
          <a:xfrm>
            <a:off x="539640" y="5742000"/>
            <a:ext cx="1006560" cy="9270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5003640" y="5013360"/>
            <a:ext cx="32418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 = 0, …, n-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 = -l, …, 0 , … , +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er immer m = 0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908000" y="6021360"/>
            <a:ext cx="8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780000" y="422100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788000" y="335772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867280" y="2349360"/>
            <a:ext cx="8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948360" y="1484280"/>
            <a:ext cx="8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771640" y="5157720"/>
            <a:ext cx="8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5.03.2007</a:t>
            </a: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Stationäre Zuständ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1 Dichte-Bilder (6,l,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3203640" y="1197000"/>
          <a:ext cx="5395680" cy="533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3640" y="1197000"/>
                    <a:ext cx="5395680" cy="533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"/>
          <p:cNvSpPr/>
          <p:nvPr/>
        </p:nvSpPr>
        <p:spPr>
          <a:xfrm>
            <a:off x="755640" y="5013360"/>
            <a:ext cx="20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 = 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5.03.2007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2.Stationäre Zustände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2.2 10%-Flächen-Bilder (n,l,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6227640" y="189000"/>
                <a:ext cx="2521080" cy="69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Ψ</m:t>
                    </m:r>
                    <m:r>
                      <m:t xml:space="preserve">(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(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f>
                          <m:num>
                            <m:r>
                              <m:t xml:space="preserve">i</m:t>
                            </m:r>
                          </m:num>
                          <m:den>
                            <m:r>
                              <m:t xml:space="preserve">ℏ</m:t>
                            </m:r>
                          </m:den>
                        </m:f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88" name=""/>
          <p:cNvGrpSpPr/>
          <p:nvPr/>
        </p:nvGrpSpPr>
        <p:grpSpPr>
          <a:xfrm>
            <a:off x="492120" y="981000"/>
            <a:ext cx="6192720" cy="5688000"/>
            <a:chOff x="492120" y="981000"/>
            <a:chExt cx="6192720" cy="5688000"/>
          </a:xfrm>
        </p:grpSpPr>
        <p:pic>
          <p:nvPicPr>
            <p:cNvPr id="89" name="" descr=""/>
            <p:cNvPicPr/>
            <p:nvPr/>
          </p:nvPicPr>
          <p:blipFill>
            <a:blip r:embed="rId1"/>
            <a:stretch/>
          </p:blipFill>
          <p:spPr>
            <a:xfrm>
              <a:off x="492120" y="1185840"/>
              <a:ext cx="6192720" cy="933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" name="" descr=""/>
            <p:cNvPicPr/>
            <p:nvPr/>
          </p:nvPicPr>
          <p:blipFill>
            <a:blip r:embed="rId2"/>
            <a:stretch/>
          </p:blipFill>
          <p:spPr>
            <a:xfrm>
              <a:off x="539640" y="981000"/>
              <a:ext cx="6126120" cy="14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" name="" descr=""/>
            <p:cNvPicPr/>
            <p:nvPr/>
          </p:nvPicPr>
          <p:blipFill>
            <a:blip r:embed="rId3"/>
            <a:stretch/>
          </p:blipFill>
          <p:spPr>
            <a:xfrm>
              <a:off x="507960" y="2106720"/>
              <a:ext cx="5141880" cy="93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" name="" descr=""/>
            <p:cNvPicPr/>
            <p:nvPr/>
          </p:nvPicPr>
          <p:blipFill>
            <a:blip r:embed="rId4"/>
            <a:stretch/>
          </p:blipFill>
          <p:spPr>
            <a:xfrm>
              <a:off x="523800" y="3016080"/>
              <a:ext cx="4089600" cy="93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" name="" descr=""/>
            <p:cNvPicPr/>
            <p:nvPr/>
          </p:nvPicPr>
          <p:blipFill>
            <a:blip r:embed="rId5"/>
            <a:stretch/>
          </p:blipFill>
          <p:spPr>
            <a:xfrm>
              <a:off x="523800" y="3916440"/>
              <a:ext cx="3067200" cy="93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" descr=""/>
            <p:cNvPicPr/>
            <p:nvPr/>
          </p:nvPicPr>
          <p:blipFill>
            <a:blip r:embed="rId6"/>
            <a:stretch/>
          </p:blipFill>
          <p:spPr>
            <a:xfrm>
              <a:off x="523800" y="4821120"/>
              <a:ext cx="2038320" cy="92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" name="" descr=""/>
            <p:cNvPicPr/>
            <p:nvPr/>
          </p:nvPicPr>
          <p:blipFill>
            <a:blip r:embed="rId7"/>
            <a:stretch/>
          </p:blipFill>
          <p:spPr>
            <a:xfrm>
              <a:off x="539640" y="5742000"/>
              <a:ext cx="1006560" cy="927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6" name="" descr=""/>
          <p:cNvPicPr/>
          <p:nvPr/>
        </p:nvPicPr>
        <p:blipFill>
          <a:blip r:embed="rId8"/>
          <a:stretch/>
        </p:blipFill>
        <p:spPr>
          <a:xfrm>
            <a:off x="500040" y="1125360"/>
            <a:ext cx="6192720" cy="10224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9"/>
          <a:stretch/>
        </p:blipFill>
        <p:spPr>
          <a:xfrm>
            <a:off x="484200" y="2060640"/>
            <a:ext cx="5167440" cy="10015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10"/>
          <a:stretch/>
        </p:blipFill>
        <p:spPr>
          <a:xfrm>
            <a:off x="515880" y="3013200"/>
            <a:ext cx="4087800" cy="9792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11"/>
          <a:stretch/>
        </p:blipFill>
        <p:spPr>
          <a:xfrm>
            <a:off x="523800" y="3902040"/>
            <a:ext cx="3056040" cy="10080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12"/>
          <a:stretch/>
        </p:blipFill>
        <p:spPr>
          <a:xfrm>
            <a:off x="523800" y="4838760"/>
            <a:ext cx="2016360" cy="9936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13"/>
          <a:stretch/>
        </p:blipFill>
        <p:spPr>
          <a:xfrm>
            <a:off x="539640" y="5805360"/>
            <a:ext cx="1008000" cy="1008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5.03.2007</a:t>
            </a:r>
          </a:p>
        </p:txBody>
      </p:sp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9T09:25:07Z</dcterms:created>
  <dc:creator>Michael Pohlig</dc:creator>
  <dc:description/>
  <dc:language>en-US</dc:language>
  <cp:lastModifiedBy>Michael Pohlig</cp:lastModifiedBy>
  <dcterms:modified xsi:type="dcterms:W3CDTF">2007-03-04T10:26:53Z</dcterms:modified>
  <cp:revision>26</cp:revision>
  <dc:subject/>
  <dc:title>Folie 1</dc:title>
</cp:coreProperties>
</file>